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29FC6-F33C-4057-A37B-67A671FED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50880" y="563796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468B3-F097-47D9-B42B-A646B8327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64740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D1C21-3904-4FF7-AEA9-E8DD10D24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0764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56476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5088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60764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56476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F445C-4DEC-48EF-BF9E-D58C13327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D61DF-1143-4A73-9200-D8889CB11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3A43E-3971-48A3-8EFF-DF1550F29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FA7D3-6091-411B-B57E-01BBD1C58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9606D-3958-4CB0-BA0C-6904EFF2B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50880" y="390240"/>
            <a:ext cx="11702880" cy="75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D3224-665C-453D-90C0-313C526DB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919BB-E6B7-4054-BC42-2AC45B06D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64740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4AB15-A4A2-4FE8-A8E1-54C5D495E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C8D93-1B21-4DC5-BF7E-2140B8B50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0520" y="9040680"/>
            <a:ext cx="303372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443120" y="9040680"/>
            <a:ext cx="411804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319680" y="9040680"/>
            <a:ext cx="303372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530DE-DF86-48C1-B574-D08B1B8AED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1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812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10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812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" descr="11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812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" descr="12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812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13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812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2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812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3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812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4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812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5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812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" descr="6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812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" descr="7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812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8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812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9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812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9T15:40:13Z</dcterms:created>
  <dc:creator> </dc:creator>
  <dc:description/>
  <dc:language>en-US</dc:language>
  <cp:lastModifiedBy> </cp:lastModifiedBy>
  <dcterms:modified xsi:type="dcterms:W3CDTF">2008-11-19T15:40:24Z</dcterms:modified>
  <cp:revision>1</cp:revision>
  <dc:subject/>
  <dc:title>Slide 1</dc:title>
</cp:coreProperties>
</file>